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ZZZZ.wav" ContentType="audio/x-wav"/>
  <Override PartName="/ppt/media/image9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B4BA-A362-498F-BD13-D6AEE4D5DBE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in the Wint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imals in the Wint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birds will fly to warmer places for the winter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birds will fly to warmer places for the winter month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will hide and sleep during the winter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animals will hide and sleep during the winter month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will adapt to their surroundings by growing a thicker coat or use camouflage by changing their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animals will adapt to their surroundings by growing a thicker coat or use camouflage by changing their col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iving W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nimals have a way to survive the wint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rviving Wi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animals have a way to survive the winter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45D-C58C-4762-9153-729F0001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C7C8-655F-4DE4-ADB4-952D1F33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A5D-6F8C-48C3-8365-64EF56CB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B6A5-BB28-4677-AA53-5580559B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CE46-2783-4FCE-9E64-9A90A4CE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BCEE-515F-4303-9E5D-FFBFEEB1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07F4-959E-477C-92F7-35A629BE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A72C-89BA-4604-BF16-1077A5C7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0267-75D5-4FD7-96D0-88E0E94F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BC41-1D45-4994-A25B-1D83608C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052D-B52D-4D54-945B-D93D1693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949-0CD8-4C12-843C-F38497F0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E718-C1A5-4AC9-B8E6-6ACF2CED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525B-15BF-4235-87DE-7B40E7AA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BDDB-14E8-4C9D-A053-13A043A2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9718-71D3-4128-86B7-34DB119D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8AAE-3FEA-4734-B2F6-82BB1A4D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48604-874A-4B27-9870-0934E1B3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AAC9C-80FF-48D2-87FB-06D9A377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F7D9E-2CD6-4AC7-98B3-BE7EFBC7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62984-18F1-4702-ADE9-725352EC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571AB-30BB-493F-96B3-8C66FE7C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E8C9-5449-44A3-9B2D-DA3F9A51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78E7B-0B44-4DBC-9601-4D910026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9BA917-CD29-4402-B33C-25821F61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3A34C-EDF5-430E-8B50-53E1A8BD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64A7E-C62E-4098-809E-930AF7A2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8D6FA-3AF0-47B5-9B7D-34E380DB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F6288-72CD-4625-B7F8-C141D705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C7049-820F-498F-9DFD-22C16897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40BC81-0376-4F70-886A-CA9B860C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49716E-0E5F-4C79-9B02-9EB0B6C4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0C3605-DF77-44CA-8565-05163EA3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99F-AEF5-4C27-891D-88609002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38FCDE-4472-4006-A0E6-72E9F30E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8C1518-4B44-4368-95BB-CDE6AD61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800F28-FF84-4A50-A785-C7AF3CD1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F2FEE2-6F30-4965-9883-CAD4891B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B51AF0-4C67-43BE-B2B2-4529B630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C8E389-8031-4084-AC83-2A050BD7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9B9913-0D4A-4D22-8248-C8BBB2DA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793197-9147-4129-BE8E-7AFA1FFC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519B04-C9F4-46EF-B4C7-57F27EEA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95700F-554B-4BDA-996D-F7B7D940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44DA-F195-4716-B2D0-9923BA7F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BB50A6-F258-4BDB-A454-AA1B3DE0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F89365-BEF7-48DD-8568-BFAC3458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C43DAC-0239-4F7F-B4D2-D2647816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E72BC1-6DEE-40DC-90B1-D4DC98DB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D22ECB-9AAB-4840-AD08-6C4A0D55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5CBFF4-5317-4745-92FA-2393FDF2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2ABEF6-1E59-4AC9-AB1E-A4A5BCDF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0389C5-3E2B-4CE9-8D44-411928B7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10731F-AE59-42F8-9820-0DD5D0AD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304802-B4D9-4FE9-A6C3-267C57FC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DD20-EC1A-4163-972E-A260A0FE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837234-8A98-46A3-9862-FE67C6E9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513E1-152C-48E2-8769-5F06A9C6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97236-B24C-4C3C-900B-958BA536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68679-35B4-42D4-97D8-69D1F8EB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C7A85-BBDA-4372-A842-FEEECA9A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96892-2846-4791-A518-4EE962E2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F628F-D921-453B-8090-4ED01529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26E69-DC3E-48C0-8D9B-386002F3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B400E-D06A-4BA0-872F-93324343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5AAF0-18BB-412E-845F-836BC946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D6D9-D132-476A-AC06-D322B23B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FE067-F3A1-4B9D-B781-B0DFD341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368CA-40C4-4818-B940-B1204144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60439-26FF-4F15-B386-6ECDF4C4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460E3-94BC-4D5A-A1B0-CE898165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A1D6C3-CE4F-4372-9397-855D3E19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74B6CB-0E70-4A06-AE1B-31D45BCF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E14008-C020-451C-9B9D-DA4194E3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AC6216-10A2-4DC6-B512-A12D5AB9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1DA9CE-B89B-4A07-93B5-561B32CB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06B4C6-02CB-4646-BD85-2D4D1BAF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B7D0-93E5-4300-87FC-EB24B29C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55ACA-00D6-4C42-8299-B5DF86E7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FAC73C-93FF-4A0A-8847-38B3758A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B33A60-99DF-4491-B4C9-EA19F4CE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448B6D-655E-434C-9B32-ABE30063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D7EB68-EA37-42B5-864B-9A2379DE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35C05-E222-4781-A5C5-E8821092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947EC-6BDD-4CA9-8118-52D98E6B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534E2-AA33-4403-8D5E-4374B1EE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F91A6-92C5-4AAA-8965-F128E28C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BD375-299E-40CA-828D-E1A18C12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9577-363B-41E7-AF91-DD819E9E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8875F-2D65-4AB6-A611-DA9C3303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A2A7B-612B-451C-AC46-26B37AD4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455A8-AAF2-4E1E-A591-84245C43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626BE-C107-4A98-B366-09C4B54F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E1C2A-CF7A-4891-89FF-F14E2474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38B08-B25C-4167-826A-78AA5077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B4AF2-0E2C-4B0E-8577-2AB2944E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055A-2DA0-4EDE-AF51-960088D18782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1FA2-0F46-471C-BE18-A707F9130F4D}" type="slidenum">
              <a:rPr b="1" lang="en-US" sz="1400" spc="-1" strike="noStrike">
                <a:solidFill>
                  <a:srgbClr val="ebddc3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2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Прямоугольник 14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Прямоугольник 15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0888-836F-404F-930D-340A6C06A33A}" type="slidenum">
              <a:rPr b="1" lang="en-US" sz="2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40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0CDD-BE65-4532-8A9F-162B42390C96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87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710E-2623-49BF-AE35-8E9820E04300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5721-627F-4DD6-9B39-DDA980C7427A}" type="slidenum">
              <a:rPr b="1" lang="en-US" sz="1400" spc="-1" strike="noStrike">
                <a:solidFill>
                  <a:srgbClr val="775f55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2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Прямоугольник 14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Прямоугольник 16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CA79-66F2-4FEA-90F8-12530EACBEE6}" type="slidenum">
              <a:rPr b="1" lang="en-US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12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Прямоугольник 14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Прямоугольник 15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BEE4-FA3D-4FF2-B3D9-AA1846EAB347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ZZZZ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Animals in the Winter</a:t>
            </a:r>
            <a:r>
              <a:rPr b="1" lang="en-US" sz="6000" spc="-1" strike="noStrike">
                <a:solidFill>
                  <a:srgbClr val="775f55"/>
                </a:solidFill>
                <a:latin typeface="Comic Sans MS"/>
              </a:rPr>
              <a:t> </a:t>
            </a:r>
            <a:br>
              <a:rPr sz="6000"/>
            </a:b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Picture 4" descr="bear-hibernate"/>
          <p:cNvPicPr/>
          <p:nvPr/>
        </p:nvPicPr>
        <p:blipFill>
          <a:blip r:embed="rId1"/>
          <a:stretch/>
        </p:blipFill>
        <p:spPr>
          <a:xfrm>
            <a:off x="2438280" y="2209680"/>
            <a:ext cx="4133880" cy="3934080"/>
          </a:xfrm>
          <a:prstGeom prst="rect">
            <a:avLst/>
          </a:prstGeom>
          <a:ln w="0">
            <a:noFill/>
          </a:ln>
        </p:spPr>
      </p:pic>
      <p:sp>
        <p:nvSpPr>
          <p:cNvPr id="368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  <p:sndAc>
      <p:stSnd>
        <p:snd r:embed="rId2" name="ZZZZ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57040"/>
            <a:ext cx="903456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Comic Sans MS"/>
              </a:rPr>
              <a:t>What are the three ways an animal will survive during the winter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9" name="Picture 4" descr="think-boy1"/>
          <p:cNvPicPr/>
          <p:nvPr/>
        </p:nvPicPr>
        <p:blipFill>
          <a:blip r:embed="rId1"/>
          <a:stretch/>
        </p:blipFill>
        <p:spPr>
          <a:xfrm>
            <a:off x="3733920" y="2895480"/>
            <a:ext cx="2651040" cy="2762280"/>
          </a:xfrm>
          <a:prstGeom prst="rect">
            <a:avLst/>
          </a:prstGeom>
          <a:ln w="0">
            <a:noFill/>
          </a:ln>
        </p:spPr>
      </p:pic>
      <p:sp>
        <p:nvSpPr>
          <p:cNvPr id="410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71200" y="3045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Comic Sans MS"/>
              </a:rPr>
              <a:t>What are the three ways an animal will survive during the winter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gr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bern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4" descr="think-boy1"/>
          <p:cNvPicPr/>
          <p:nvPr/>
        </p:nvPicPr>
        <p:blipFill>
          <a:blip r:embed="rId1"/>
          <a:stretch/>
        </p:blipFill>
        <p:spPr>
          <a:xfrm>
            <a:off x="5410080" y="2362320"/>
            <a:ext cx="2651400" cy="2762280"/>
          </a:xfrm>
          <a:prstGeom prst="rect">
            <a:avLst/>
          </a:prstGeom>
          <a:ln w="0">
            <a:noFill/>
          </a:ln>
        </p:spPr>
      </p:pic>
      <p:sp>
        <p:nvSpPr>
          <p:cNvPr id="414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0320" y="-68760"/>
            <a:ext cx="90342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4" descr="thinking"/>
          <p:cNvPicPr/>
          <p:nvPr/>
        </p:nvPicPr>
        <p:blipFill>
          <a:blip r:embed="rId1"/>
          <a:stretch/>
        </p:blipFill>
        <p:spPr>
          <a:xfrm>
            <a:off x="2971800" y="2057400"/>
            <a:ext cx="2260440" cy="3902040"/>
          </a:xfrm>
          <a:prstGeom prst="rect">
            <a:avLst/>
          </a:prstGeom>
          <a:ln w="0">
            <a:noFill/>
          </a:ln>
        </p:spPr>
      </p:pic>
      <p:sp>
        <p:nvSpPr>
          <p:cNvPr id="371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14360" y="39240"/>
            <a:ext cx="903456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4" name="Picture 4" descr="bird-aviator"/>
          <p:cNvPicPr/>
          <p:nvPr/>
        </p:nvPicPr>
        <p:blipFill>
          <a:blip r:embed="rId1"/>
          <a:stretch/>
        </p:blipFill>
        <p:spPr>
          <a:xfrm>
            <a:off x="3505320" y="2971800"/>
            <a:ext cx="2879640" cy="2892600"/>
          </a:xfrm>
          <a:prstGeom prst="rect">
            <a:avLst/>
          </a:prstGeom>
          <a:ln w="0">
            <a:noFill/>
          </a:ln>
        </p:spPr>
      </p:pic>
      <p:sp>
        <p:nvSpPr>
          <p:cNvPr id="375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0320" y="39240"/>
            <a:ext cx="90342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8" name="Picture 4" descr="bird-aviator"/>
          <p:cNvPicPr/>
          <p:nvPr/>
        </p:nvPicPr>
        <p:blipFill>
          <a:blip r:embed="rId1"/>
          <a:stretch/>
        </p:blipFill>
        <p:spPr>
          <a:xfrm>
            <a:off x="3276720" y="1905120"/>
            <a:ext cx="2125440" cy="18288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8"/>
          <p:cNvSpPr/>
          <p:nvPr/>
        </p:nvSpPr>
        <p:spPr>
          <a:xfrm>
            <a:off x="1363680" y="265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0" name="Group 15"/>
          <p:cNvGrpSpPr/>
          <p:nvPr/>
        </p:nvGrpSpPr>
        <p:grpSpPr>
          <a:xfrm>
            <a:off x="3811680" y="2400480"/>
            <a:ext cx="9144000" cy="360"/>
            <a:chOff x="3811680" y="2400480"/>
            <a:chExt cx="9144000" cy="360"/>
          </a:xfrm>
        </p:grpSpPr>
        <p:sp>
          <p:nvSpPr>
            <p:cNvPr id="381" name="Rectangle 14"/>
            <p:cNvSpPr/>
            <p:nvPr/>
          </p:nvSpPr>
          <p:spPr>
            <a:xfrm>
              <a:off x="3811680" y="2400480"/>
              <a:ext cx="9144000" cy="360"/>
            </a:xfrm>
            <a:prstGeom prst="rect">
              <a:avLst/>
            </a:prstGeom>
            <a:solidFill>
              <a:srgbClr val="ed8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>
              <a:off x="3811680" y="2400480"/>
              <a:ext cx="9144000" cy="360"/>
            </a:xfrm>
            <a:prstGeom prst="rect">
              <a:avLst/>
            </a:prstGeom>
            <a:solidFill>
              <a:srgbClr val="ed8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83" name="Picture 12" descr=" Bears - Pictures "/>
          <p:cNvPicPr/>
          <p:nvPr/>
        </p:nvPicPr>
        <p:blipFill>
          <a:blip r:embed="rId2"/>
          <a:stretch/>
        </p:blipFill>
        <p:spPr>
          <a:xfrm>
            <a:off x="3505320" y="3657600"/>
            <a:ext cx="1520640" cy="205740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3"/>
          <p:cNvSpPr/>
          <p:nvPr/>
        </p:nvSpPr>
        <p:spPr>
          <a:xfrm>
            <a:off x="3811680" y="2400480"/>
            <a:ext cx="2514600" cy="360"/>
          </a:xfrm>
          <a:prstGeom prst="rect">
            <a:avLst/>
          </a:prstGeom>
          <a:solidFill>
            <a:srgbClr val="ed8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Нижний колонтитул 10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4360" y="39240"/>
            <a:ext cx="903456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ibernate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4" descr="bird-aviator"/>
          <p:cNvPicPr/>
          <p:nvPr/>
        </p:nvPicPr>
        <p:blipFill>
          <a:blip r:embed="rId1"/>
          <a:stretch/>
        </p:blipFill>
        <p:spPr>
          <a:xfrm>
            <a:off x="3352680" y="21337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 Bears - Pictures "/>
          <p:cNvPicPr/>
          <p:nvPr/>
        </p:nvPicPr>
        <p:blipFill>
          <a:blip r:embed="rId2"/>
          <a:stretch/>
        </p:blipFill>
        <p:spPr>
          <a:xfrm>
            <a:off x="3429000" y="3809880"/>
            <a:ext cx="1139760" cy="1600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squirrel-nuts"/>
          <p:cNvPicPr/>
          <p:nvPr/>
        </p:nvPicPr>
        <p:blipFill>
          <a:blip r:embed="rId3"/>
          <a:stretch/>
        </p:blipFill>
        <p:spPr>
          <a:xfrm>
            <a:off x="4876920" y="5105520"/>
            <a:ext cx="1530360" cy="1322280"/>
          </a:xfrm>
          <a:prstGeom prst="rect">
            <a:avLst/>
          </a:prstGeom>
          <a:ln w="0">
            <a:noFill/>
          </a:ln>
        </p:spPr>
      </p:pic>
      <p:sp>
        <p:nvSpPr>
          <p:cNvPr id="391" name="Нижний колонтитул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71200" y="-168480"/>
            <a:ext cx="816300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Migrate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birds will fly to warmer places for the winter month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4" descr="bird-anim"/>
          <p:cNvPicPr/>
          <p:nvPr/>
        </p:nvPicPr>
        <p:blipFill>
          <a:blip r:embed="rId1"/>
          <a:stretch/>
        </p:blipFill>
        <p:spPr>
          <a:xfrm>
            <a:off x="3733920" y="3048120"/>
            <a:ext cx="1976400" cy="2609640"/>
          </a:xfrm>
          <a:prstGeom prst="rect">
            <a:avLst/>
          </a:prstGeom>
          <a:ln w="0">
            <a:noFill/>
          </a:ln>
        </p:spPr>
      </p:pic>
      <p:sp>
        <p:nvSpPr>
          <p:cNvPr id="395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Hibernate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animals will hide and sleep during the winter month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8" name="Picture 4" descr="bear-hibernate"/>
          <p:cNvPicPr/>
          <p:nvPr/>
        </p:nvPicPr>
        <p:blipFill>
          <a:blip r:embed="rId1"/>
          <a:stretch/>
        </p:blipFill>
        <p:spPr>
          <a:xfrm>
            <a:off x="3276720" y="2924280"/>
            <a:ext cx="3295440" cy="3136680"/>
          </a:xfrm>
          <a:prstGeom prst="rect">
            <a:avLst/>
          </a:prstGeom>
          <a:ln w="0">
            <a:noFill/>
          </a:ln>
        </p:spPr>
      </p:pic>
      <p:sp>
        <p:nvSpPr>
          <p:cNvPr id="399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Adapt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animals will adapt to their surroundings by growing a thicker coat or use camouflage by changing their colo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2" name="Picture 4" descr="deer1"/>
          <p:cNvPicPr/>
          <p:nvPr/>
        </p:nvPicPr>
        <p:blipFill>
          <a:blip r:embed="rId1"/>
          <a:stretch/>
        </p:blipFill>
        <p:spPr>
          <a:xfrm>
            <a:off x="3505320" y="3962520"/>
            <a:ext cx="2390760" cy="2590560"/>
          </a:xfrm>
          <a:prstGeom prst="rect">
            <a:avLst/>
          </a:prstGeom>
          <a:ln w="0">
            <a:noFill/>
          </a:ln>
        </p:spPr>
      </p:pic>
      <p:sp>
        <p:nvSpPr>
          <p:cNvPr id="403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71200" y="-76680"/>
            <a:ext cx="8163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Comic Sans MS"/>
              </a:rPr>
              <a:t>Surviving Winter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ll animals have a way to survive the winter.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6" name="Picture 4" descr="snow"/>
          <p:cNvPicPr/>
          <p:nvPr/>
        </p:nvPicPr>
        <p:blipFill>
          <a:blip r:embed="rId1"/>
          <a:stretch/>
        </p:blipFill>
        <p:spPr>
          <a:xfrm>
            <a:off x="2895480" y="3124080"/>
            <a:ext cx="3353040" cy="2667240"/>
          </a:xfrm>
          <a:prstGeom prst="rect">
            <a:avLst/>
          </a:prstGeom>
          <a:ln w="0">
            <a:noFill/>
          </a:ln>
        </p:spPr>
      </p:pic>
      <p:sp>
        <p:nvSpPr>
          <p:cNvPr id="407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9:00:50Z</dcterms:created>
  <dc:creator>Jefferson County Tech Center</dc:creator>
  <dc:description/>
  <dc:language>en-US</dc:language>
  <cp:lastModifiedBy>LEGION</cp:lastModifiedBy>
  <dcterms:modified xsi:type="dcterms:W3CDTF">2018-03-22T08:19:22Z</dcterms:modified>
  <cp:revision>13</cp:revision>
  <dc:subject/>
  <dc:title>Animals in the Winter  Second Grade</dc:title>
</cp:coreProperties>
</file>